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1.gif" ContentType="image/gif"/>
  <Override PartName="/ppt/media/image14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93289-37AE-43E5-A5A9-90D09FEC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79516-1981-42F1-B114-C33D48DC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C8A3C-B898-4DA0-A539-E034ABF6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B5412-0236-4947-B229-A2289152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547B-67DF-4E17-ABB0-B39AF13F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A9EE-91DC-4BC1-BD31-25DE7851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EA7B-93D8-41C3-9789-4055D626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E250-3138-4EF2-BB23-1CE1619E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CC2F-48B6-49C8-A1A3-722300D7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5A61-469D-4606-BC1E-16AE2DAD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6BDE-7B8A-4ECC-8C1A-E47E619C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760A1-CA4E-4C42-8ADD-C2070F2B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8CF5-9B13-44A0-9E97-9195E6DF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65BA-EAC3-4D7A-8A19-C52EFE25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60D9-6948-474D-852C-406F7CCC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17A9-D531-4452-85BB-240AF6D0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3CC6-3F24-43DB-BE9D-3DEED037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4AAEB-A6AA-4580-8F50-463D4B50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D3EAD-8B3E-4B16-8114-FB5A75B4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52A4E-ECC7-4CD3-8A8A-4431BE85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F8037-5E4E-4298-9546-35A651D4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ECFDD-A847-4D62-BB8B-D69EC58C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E443B-A605-4818-9DE8-90F59489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CC388-D1CD-4499-8FAC-268F50E1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5AA4F-0C2F-4A7E-AC1B-ED0E6429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4F1AF-B173-492B-A8F1-4735177C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39599-AD22-4D9C-B64B-D115BC58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D8CEB-8F9A-4BD4-A0B4-282BBC4A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28E6D-F50E-442C-A136-2C08CD45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DF01C-C33C-4320-926D-8C47AE5F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53C81-722E-44B4-B331-5CAADA3C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5D53B-F540-4808-B994-F454047D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5A777-6E8A-4A8D-995D-A81E6CD5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18AB3-C678-430E-B5A1-C73E40CC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BEE73-4DDC-4FA3-BDE8-F94EF166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C7B64-E4A7-4014-9425-FD5FC9C1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83948-2E87-4A45-A481-DE7CD4F4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C1202-2086-4DE7-9D87-5F2E5036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A1AFD-5B86-4EA0-A5A8-6087103B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989AF-D874-433A-9CA8-D9EA5C2F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19E42-2DE3-482F-BF02-D3BC4A61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AE676-8973-47BE-A5F0-25F9CD1A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CF8BD-73AE-41E3-9D93-CDE7A227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BC87E-345F-44D9-A1E9-A2B6D9D9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6DA13-A3AF-4E07-8812-C1704CB0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090B3-154F-490A-B2EA-F50AD280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9E552-4905-4D69-90EF-E562B0EF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827FF-81AF-44B1-A585-D8D4B75B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B37E1-0F00-4BED-BC5A-1845A31D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10C82-C90A-45BD-A1CE-80A9F123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F0CA7-1344-41AC-9991-84E5DE86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59FB0-B880-4035-8C99-DC821DD7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9BD21-CCC1-48FD-BF30-A6747720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4BDD2-5851-4ABB-A759-C1FCF627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3E393-452E-46FA-AA53-B1F5C7C6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4ABBB-C78D-4352-AAC5-156C5B8B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8BB6B-4952-42A2-802F-49C96E47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A3BEF-3B4D-46D4-A658-D61FDD74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E392B-158C-4255-8D3D-6ED37398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B2404-B905-4C4C-AEA5-55197274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488E0-EEE7-4120-B39E-5204C40C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E4CA6-2AE3-4E04-A65F-1C655724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3F946-40A1-4C01-AA36-4C24B9A5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6F0C2-CD22-4984-B1E0-13A9CEE8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CB5DA-5CAA-4906-9199-4A179C9E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9BD01-7099-44C8-BEDF-26DF4983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921A6-FF07-481C-A011-D3040A78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5158E-1AA1-4A02-A6D7-327F0CF4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E1F91-CBBA-43D3-809D-D05F28FB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B5BF5-F2F0-44D5-A34B-E718D864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35FE60-EA3A-40F8-B7E0-C2EABD0F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12128D-A224-444A-9424-9EC79503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23F18D-4641-414B-8BB0-25FC525D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4D74C1-6E32-40A7-8D77-AC27EA5C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1EC46B-E0EB-4299-8CFB-D08A975C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B1AF32-6593-4EDB-83F1-0B4C0BE7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04FC76-3063-4763-AA87-82BCF6CB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7A15D-7F3A-4453-92DE-7F949D9D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C2D000-5655-4C3B-8957-4C8866C6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C0EEE0-51F2-458C-8514-34E204DD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976C77-0F0C-47A2-90FD-99F80AFD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C8A213-5EA8-453F-A122-CFC5BDAF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0180A2-5E05-4E7A-AB3E-E6207EED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BF6C5-1D82-42F4-A984-631E2CD0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4C842-7274-462E-8AF1-40B1DD21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8125E-4CC9-4083-811F-2C502A09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178EA-7EBC-451B-9718-A5EFDF64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13F5E-3C54-45ED-AF44-044D8B12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D8F61-F56E-47FB-9093-0E209AD7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60129-F0F0-4196-96FD-70DC80C0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D2B18-9392-4A39-A558-A4E7F7DA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5C536-02C6-4A0D-9265-3E75584E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226D0-FE75-4F66-88C0-A2471FFA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BF3E4-A92F-4260-B40D-5C456D21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76AC5-EC64-4AC8-9FD6-474AE0DF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61404-045A-4770-B108-8557B24C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78A2-304E-4B9E-860D-8611AADE86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7980-9FFA-4575-AFC6-51DE3865B1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07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0A77-9A2B-4C19-A482-3DF08BC78B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52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FB02-7EB3-4ADF-81E3-9D3CA84EDC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96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FDF5-D665-48B7-92FB-5FFA95160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46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D980-0CA9-4278-8467-0ECA97FE5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9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DA57-E327-48EC-993F-EF52F44E44A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5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C995-59A3-4963-943A-6E90B4A1CB8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mployees.csbsju.edu/aspring/Education/israel.htm#Four%20basic%20features" TargetMode="External"/><Relationship Id="rId2" Type="http://schemas.openxmlformats.org/officeDocument/2006/relationships/hyperlink" Target="http://www.jewishvirtuallibrary.org/jsource/History/scarcity.html" TargetMode="External"/><Relationship Id="rId3" Type="http://schemas.openxmlformats.org/officeDocument/2006/relationships/hyperlink" Target="http://www.traveldocs.com/il/economy.htm" TargetMode="External"/><Relationship Id="rId4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akeforestpilgrimage.files.wordpress.com/2008/07/sea-of-galilee.jp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com/imgres?imgurl=http://schema-root.org/region/middle_east/palestine/israel/government/officials/shimon_peres/shimon_peres.jpg&amp;imgrefurl=http://schema-root.org/region/middle_east/palestine/israel/government/officials/shimon_peres/&amp;usg=__QB3yV6VFOZ-HJVs60u5YaoEwGEo=&amp;h=301&amp;w=255&amp;sz=13&amp;hl=en&amp;start=10&amp;um=1&amp;tbnid=ut_iRWhVOJUJWM:&amp;tbnh=116&amp;tbnw=98&amp;prev=/images%3Fq%3Dshimon%2Bperes%26um%3D1%26hl%3Den%26safe%3Dactive%26sa%3DN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Photo: Israel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ccff"/>
                </a:solidFill>
                <a:latin typeface="comic"/>
              </a:rPr>
              <a:t>Israel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comic"/>
              </a:rPr>
              <a:t>By Emily All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comic"/>
              </a:rPr>
              <a:t>A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comic"/>
              </a:rPr>
              <a:t>Brady Altla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Places to Vis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Tourist Attra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Lohamei Hageta’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Historical Muse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Jewish site or artifact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Military attraction or muse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hmed el-Jazzar Mos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slamic site or artifact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Significant Historical Si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Temple 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Where it was believed to be the site that Abraham almost gave his son up for a sacri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orks Cite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ww.Travel.nationalgeographic.com/places/index.html Feb 16 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http://employees.csbsju.edu/aspring/Education/israel.htm#Four%20basic%20featur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 Feb 16 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ww.Israelmybeloved.com Feb 17 200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http://www.jewishvirtuallibrary.org/jsource/History/scarcity.htm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Feb 17 200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http://www.traveldocs.com/il/economy.htm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Feb 22 200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www.myjewishlearning.com/history_community/Medieval/MedievalSocialTO/Clothing.htm Feb 23 200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www.planetware.com/tourist-attractions-/acre-isr-nr-ak.htm Feb 23 200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www.asiarooms.com/travel-guide/israel/culture-of-israel/architecture-in-israel.html Feb 24 200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7469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Land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Jordan River Val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Costal Pl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he Southern semi arid Negev Reg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Hill country of Gali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Mount M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" y="5029200"/>
            <a:ext cx="7924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Bordering The Mediterranean Sea. Jordan, Egypt, Lebanon, and Syria border 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Sea of Galile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ke Kinne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 of Gali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astal Aqui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648320" y="1600200"/>
            <a:ext cx="40384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sph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lf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ph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ga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2666880" y="3809880"/>
            <a:ext cx="2581560" cy="20034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mate/ Vege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mate: Temperat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ildca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ild Boars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azell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egetation Zones: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editerranea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rano-Turani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haro-Arabi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dano-Zambesi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uro-Siberia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2305080" cy="29718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5867280" y="4572000"/>
            <a:ext cx="211464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3505320" y="3809880"/>
            <a:ext cx="4600440" cy="30481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724120"/>
            <a:ext cx="3492360" cy="413388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overn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04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ical Lead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ident: Shimon Pe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estinian Leader: Mahmoud Abb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15080" y="1904760"/>
            <a:ext cx="3930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Expectancy: 7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: 7,10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of Governmen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liamentary Representative Democratic Repub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Historical Ev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1967 6 day war; Jerusalem Reun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2006 New Prime Minister, Ehud Olm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srael responds to Lebanon roc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raeli soldiers examine the remains of a rocket fired from Leban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ROCKET FIRED FROM LEBANON HAS LIGHTLY WOUNDED THREE PEOPLE IN NORTHERN ISRAEL, THE ISRAELI ARMY SAY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BANESE SECURITY SOURCES SAID THAT THREE ROCKETS HAD BEEN FIRED FROM SOUTHERN LEBANON BUT TWO HAD LANDED INSIDE LEBANESE TERRITO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BANESE SOURCES SAY THAT ISRAEL THEN FIRED AT LEAST SIX ARTILLERY SHELL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EBANESE PRIME MINISTER DENOUNCED BOTH ATTACKS. NO-ONE HAS CLAIMED RESPONSIBILITY FOR THE ROCKET FIR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LEBANESE SOURCE TOLD REUTERS THAT ROCKETS HAD BEEN FIRED FROM THE AREA OF MANSOURI, SOUTH OF TYRE, TOWARDS ISRA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WOMAN IS REPORTED TO HAVE BEEN INJURED BY FLYING GLASS IN HER HOME WHEN THE ROCKET LANDED NEAR THE ISRAELI TOWN OF MAALOT NEAR THE LEBANESE BORDER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SRAELI ARMY SAID IT HAD FIRED SHELLS IN RESPONSE TO THE ROCKET ATTACK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'UNJUSTIFIED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THE ISRAELI SHELLING IS AN UNACCEPTABLE AND UNJUSTIFIED VIOLATION OF LEBANESE SOVEREIGNTY," HE SAID IN A STATEMENT. "THE ROCKETS LAUNCHED FROM LEBANON THREATEN THE COUNTRY'S SECURITY AND STABILITY AND CONSTITUTE A VIOLATION OF UN SECURITY COUNCIL RESOLUTION 1701.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LUTION 1701 ENDED THE 2006 WAR BETWEEN HEZBOLLAH AND ISRA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RING THE RECENT CONFLICT IN GAZA, ROCKETS FROM LEBANON WERE FIRED INTO ISRAEL TWIC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ZBOLLAH DENIED RESPONSIBILITY FOR THOSE ROCKETS, SUSPECTED TO HAVE BEEN FIRED BY PALESTINIAN MILITAN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Israel map"/>
          <p:cNvPicPr/>
          <p:nvPr/>
        </p:nvPicPr>
        <p:blipFill>
          <a:blip r:embed="rId1"/>
          <a:stretch/>
        </p:blipFill>
        <p:spPr>
          <a:xfrm>
            <a:off x="6477120" y="304920"/>
            <a:ext cx="21524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ype of Industry: Agri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ajor Ex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itrus, Polished Diamonds, electronic communication, medical and scientific equipment, chemical products, electronics and computers, machinery and equipment, transport equipment, rubber, plastics, and textiles.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Literacy Rate: 9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urrency: New Israeli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hek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4.13 shekels = 1 U.S. Dol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Dome of the Rock"/>
          <p:cNvPicPr/>
          <p:nvPr/>
        </p:nvPicPr>
        <p:blipFill>
          <a:blip r:embed="rId1"/>
          <a:stretch/>
        </p:blipFill>
        <p:spPr>
          <a:xfrm>
            <a:off x="533520" y="50292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2286000" y="838080"/>
            <a:ext cx="4199040" cy="47865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53316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Arial"/>
              </a:rPr>
              <a:t>Traditional Clothing: taylasin (a shawl like head covering) and the zunna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Arial"/>
              </a:rPr>
              <a:t>Traditional Foods: Kosher food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Arial"/>
              </a:rPr>
              <a:t>Architecture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Jerusalem Sto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684320" y="1828440"/>
            <a:ext cx="4002120" cy="16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Arial"/>
              </a:rPr>
              <a:t>Languages spoken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Hebrew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Arab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Englis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48320" y="3886200"/>
            <a:ext cx="411480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6633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ligions Practi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Jew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Christ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I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ul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9:11:16Z</dcterms:created>
  <dc:creator>emilyeallen</dc:creator>
  <dc:description/>
  <dc:language>en-US</dc:language>
  <cp:lastModifiedBy>emilyeallen</cp:lastModifiedBy>
  <dcterms:modified xsi:type="dcterms:W3CDTF">2009-02-24T14:46:55Z</dcterms:modified>
  <cp:revision>8</cp:revision>
  <dc:subject/>
  <dc:title>Israel</dc:title>
</cp:coreProperties>
</file>